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7CE-89BA-4DF5-A62F-0C636A29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E3C-36BD-41E2-A608-BEE82AC9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8F3-8165-4E7D-B6F4-F13F4795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8F3-DA7F-4F4A-831D-564AC626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689C-D852-41DA-8489-9319FEB8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2591-1181-414E-A46A-3B171B24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DDA-56DE-4121-BAC8-73D60C9F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1924-6862-4CE1-A66B-2326BD04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DB4A-0276-4C7A-BDE9-BDC2F0B9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BE4-5511-4B72-813E-C560F46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745-8CEA-4FDE-8684-9AF3BA1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872-0430-474B-8068-FCEC4D62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2456-3051-4614-9ECB-2F08EB7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332-5EF2-453C-BAB6-48220D9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973E-4A56-48FF-AE8F-A663395F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E766-548C-4514-A13A-C5E6B53C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7B4-A13E-45E9-9BD3-BCA24A5C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AFB-A36A-473C-BDDA-64FE33BB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00C-1CBC-48E7-890B-74E435FC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C21-0BC4-4BFD-B4D9-E00CFBC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339-F28B-4FE2-A1EF-DBC49C4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766-ED1A-42EA-A09F-3AD1AB4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26F-8358-4E02-89AA-F33E221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6D1-7885-43F2-A2CF-E1D42B3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634-3408-4546-8AB3-90B64DE1A1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2B5C-7DD9-4B9D-9607-36E1AF316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Всех ли одинаково кусают комары 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Ученик :Рочева Мария,7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Методы защиты от комар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мещении лучшая защита  — мелкие сетки на окнах, вентилятор, установленный у крова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ыстро действует (уничтожающий) аэрозоль, но увлекаться не стоит, т.к. они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33228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сследовать всех ли одинаково кусают ком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67280" y="1557360"/>
            <a:ext cx="4619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 кто такой кома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кусает кома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, как комары находят свои жерт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комары кусают не все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время максимальной активности ком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 описание методов защиты от ком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то такой комар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ры - насекомые отряда двукрылых (Diptera )у них развита только одна пара крыльев (передняя), большая группа членистоног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3940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Arial"/>
              </a:rPr>
              <a:t>Почему кусает комар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87640" y="1599840"/>
            <a:ext cx="410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ка комара кусает, так как для полного дозревания яичек необходима  кр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цы не пьют кр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3898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Как комары находят свои жертв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59280" y="1483920"/>
            <a:ext cx="56275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тягательным образом действует запах тела. Особенно привлекают пот (выделяются ферамоны), температура тела, выделение углекислого газа, а у людей — также цвет и поверхность одеж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2669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чему комары кусают не всех?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потом у людей выделяются привлекающие (вырабатываются у всех людей) и отпугивающие(только у некоторых)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пределить время максимальной активности комаров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4259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моим наблюдениям, комары больше всего кусают в теплые безветренные вечера или перед грозой, когда в воздухе так знойно и душ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данным, активность зависит от метеорологических факторов: скорость воздушного течения, интенсивность освещения и температу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89880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Методы защиты от комар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запахи, которые отпугивают комаров: запах дыма (в том числе сигаретного), чеснока, эфирных масел, лад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44560" y="378936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8920" y="3789360"/>
            <a:ext cx="2673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Методы защиты от комар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химических препаратов, отпугивающих насекомых -  репеллентов. 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олем репеллентов уже более 50 лет является диэтилтолуамид (ДЭТА, или D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6120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17:29Z</dcterms:created>
  <dc:creator>07110</dc:creator>
  <dc:description/>
  <dc:language>en-US</dc:language>
  <cp:lastModifiedBy>07110</cp:lastModifiedBy>
  <dcterms:modified xsi:type="dcterms:W3CDTF">2009-11-30T08:16:07Z</dcterms:modified>
  <cp:revision>6</cp:revision>
  <dc:subject/>
  <dc:title>Всех ли одинаково кусают комары ?</dc:title>
</cp:coreProperties>
</file>